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F5B-ACF1-448A-BE90-503D35B2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870-40C7-4D8F-A50C-3B46CDB4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925-537E-4525-BA83-6235B188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E45-4F5C-4D11-8022-B869216D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6D73-629C-4941-A005-917CDFBD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8F42-C1AB-46B2-83C8-D2F4BDDA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C257-080F-462C-868D-D9C43185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0A60-286E-49AB-BE97-3456EB54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D993-822F-44C9-B7B9-AFEC2F8E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59D4-8D43-49EC-8E3B-953AF738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EB81-938C-4134-B0F7-1FF66213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800-0F8A-4F00-9D38-C2972DA2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241E-37E7-427B-B320-2DE77296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5538-B7D8-4706-B95B-8AEED1DD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DADB-AFF0-469E-8D15-B22CA1D9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DFA4-84AE-4B95-906C-98ACC6C1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F181-E3D6-4625-A5E7-BF275C16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9C6C5-9C90-4866-B51C-B456C52C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83EE-5524-409A-A0E3-7597B781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A1AF7-2580-4F93-AE84-C2003E18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496E-8110-465B-B282-F3C78192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90E3C-B7A0-44D4-A6B9-54C3AD2F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B12-3DD0-4802-A0FE-71C5EAE3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892E7-30FD-4F13-8827-8DB1F253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EABC-D8EB-48FF-8897-2A092DF5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074C-5CDC-4EE5-9CF3-CA50896A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1BC0-D513-48E1-83E7-F8B8B351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C0AB-BC6A-4592-9D3A-15DCF11C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1D5B-EC0F-4178-BE6E-93B8E505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19A76-E9F4-4FF5-BE0C-A9DC08DF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7606D-1CE8-45E7-9FC7-B37445BA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D505B-5343-443A-ABDC-A89F4561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945E7-968C-4E9C-8214-91771395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13E-EF83-456F-8C08-FD99FBF6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CFA13-326B-413D-8BBA-18D0CEAA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1D61E-5047-4717-BCFC-102E00DD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EBBBC-C0A9-4A73-AB57-595351B0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9C1BD-4814-4D10-9777-6175A468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5CDC9-32FF-4354-A9E8-757B3E11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9734-2643-45AE-81EF-614D00F5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5120D-24BD-4C16-A342-1CC747C2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77EFA-1AE7-4A4C-BD01-67A837E1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1C8F6-A858-49C5-8285-057FF63E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19D-3E93-4AC9-8A22-D0EA5728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C2F-DD15-4484-8584-41006AF5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C43-C3DA-41F2-8559-01C828FD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4EC-7A43-4C52-BBCD-A78B7F69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708-91E7-416F-A1D8-316C47CA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F5A5-4F0C-4BAE-A821-1D1A48C19E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505C-8ABE-462E-A465-69632DD338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94A5-3730-43D0-BB4D-4EA60C7A65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D1E6-289A-4FAB-9A10-EA99176C6C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логиче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580000" y="53737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2195640" y="198900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54061"/>
                </a:solidFill>
                <a:latin typeface="Arial"/>
              </a:rPr>
              <a:t>Сохраним планету – сохраним м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ша планета Земля!!!!!!!!!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Содержимое 3" descr="0246.jpg"/>
          <p:cNvPicPr/>
          <p:nvPr/>
        </p:nvPicPr>
        <p:blipFill>
          <a:blip r:embed="rId1"/>
          <a:stretch/>
        </p:blipFill>
        <p:spPr>
          <a:xfrm>
            <a:off x="1000080" y="1643040"/>
            <a:ext cx="1657440" cy="1257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Друзья.jpg"/>
          <p:cNvPicPr/>
          <p:nvPr/>
        </p:nvPicPr>
        <p:blipFill>
          <a:blip r:embed="rId2"/>
          <a:stretch/>
        </p:blipFill>
        <p:spPr>
          <a:xfrm>
            <a:off x="3143160" y="1500120"/>
            <a:ext cx="5616720" cy="42116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j0178656.jpg"/>
          <p:cNvPicPr/>
          <p:nvPr/>
        </p:nvPicPr>
        <p:blipFill>
          <a:blip r:embed="rId3"/>
          <a:stretch/>
        </p:blipFill>
        <p:spPr>
          <a:xfrm>
            <a:off x="214200" y="350028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охраним родную при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10.jpg"/>
          <p:cNvPicPr/>
          <p:nvPr/>
        </p:nvPicPr>
        <p:blipFill>
          <a:blip r:embed="rId1"/>
          <a:stretch/>
        </p:blipFill>
        <p:spPr>
          <a:xfrm>
            <a:off x="1266840" y="1600200"/>
            <a:ext cx="661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 апреля – всемирный день Земл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7 год - год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 же так получается, что планета вращается, что планета вращается несмотря ни на чт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е мы вроде бы умные – о природе не думаем, и , конечно, не думаем, что же дальше нас ждет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хранить природу – это сохранить жизн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й заповедник был создан в Соединенных Штатах Америки в 1832 г., Там же в 1872 был открыт первый национальный парк – Иеллоустонск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год во всем мире в водоемы попадают столько вредных веществ, что ими можно было бы наполнить 10 тысяч товарных поездов. Даже во льдах Арктики нашли стиральный порош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и,родник,жив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зеро Байкал, содержит 1/3 мировых запасов пресной воды потеряло способность самоочищаться. За последние 60 лет на планете исчезли 77 видов животных и несколько сотен видов растений, 26 видов птиц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 территории нашей страны выделено около 300 ареалов с острой экологической ситуацией. Они занимают 16 % ее площади,или 3,7 млн к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мните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умага будет лежать 2 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сервная банка –более 3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лиэтиленовый пакет – более 20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екло – более 100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еловек! Запомни навсегда:Символ жизни на земле – вода! Экономь ее и береги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Содержимое 3" descr="0241.jpg"/>
          <p:cNvPicPr/>
          <p:nvPr/>
        </p:nvPicPr>
        <p:blipFill>
          <a:blip r:embed="rId1"/>
          <a:stretch/>
        </p:blipFill>
        <p:spPr>
          <a:xfrm>
            <a:off x="1428840" y="1571760"/>
            <a:ext cx="5932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ная книга растений Кры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896760" y="22320"/>
            <a:ext cx="5008680" cy="31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455760" y="3573360"/>
            <a:ext cx="3108240" cy="313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3708360" y="2637000"/>
            <a:ext cx="51116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20:20:36Z</dcterms:created>
  <dc:creator>Admin</dc:creator>
  <dc:description/>
  <dc:language>en-US</dc:language>
  <cp:lastModifiedBy>RePack by Diakov</cp:lastModifiedBy>
  <dcterms:modified xsi:type="dcterms:W3CDTF">2017-01-30T16:48:31Z</dcterms:modified>
  <cp:revision>9</cp:revision>
  <dc:subject/>
  <dc:title>На пороге экологической катастрофы</dc:title>
</cp:coreProperties>
</file>